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E018-9241-4EA0-A706-5B1DBA608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6CF5-518E-40D1-B39B-8AD0842FE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332D-A01E-42B1-99EF-93EB5BD7E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1483-0772-4560-BE96-B317DACD30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2160-97D6-465C-85F3-6025C8C5E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A3A0-870E-4B49-B616-48E1F65DD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9948-BA37-4069-AD7B-F4F85053E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C8E7-DAA9-4232-A103-6366B15C3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F38B-2375-47BD-90E8-658446A57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720F-71CB-4EEB-BE79-3D220B873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CEF8-5ABF-4DC7-B499-30CB796C8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7FAF-7029-476A-87A2-A0DCC1F22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8A5A-485F-404C-A080-021637471F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F0B6-D3F6-43AD-AF67-091E6432D5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The Journey Beg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2362320"/>
            <a:ext cx="78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Excerpt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Give Effective Feedback to your Stude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usan Brookh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ptional Home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 know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xamples of generalization and justification in stude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crete model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nections between patterning and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7032-E2FA-4912-870E-C2906B078B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79F4-502B-441C-811F-0BC07E1D26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4D4F-5026-4FE5-AED1-924B49F49F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EE8A-399C-443A-9371-BF9869B136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0880" y="10666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 Who are We?  ~ 1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stickers on chart paper to create bar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al Glyph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ions on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74320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666880"/>
            <a:ext cx="5181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rses you have experience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ne or two courses your intereste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xperienced AND inter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3526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Personal Goals ~ 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the Ques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Why did you come to Math Camppp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lustrate your groups’ responses on chart paper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4154-1766-40FF-A007-845C0C2284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00CE-9021-4969-932D-FAA0A1D53C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iscuss examples of Algebraic Thinking in student samples from the “Cube Sticker Probl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 to Generalization Strategies and Justification Framework from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gether with another pair.  Share and compare your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5BA6-9B7C-4BCC-82BA-8FC7867541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BE37-AD4B-4544-961C-3596AB75F8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876560" y="1523880"/>
            <a:ext cx="3505320" cy="1066680"/>
            <a:chOff x="4876560" y="1523880"/>
            <a:chExt cx="3505320" cy="1066680"/>
          </a:xfrm>
        </p:grpSpPr>
        <p:sp>
          <p:nvSpPr>
            <p:cNvPr id="76" name=""/>
            <p:cNvSpPr/>
            <p:nvPr/>
          </p:nvSpPr>
          <p:spPr>
            <a:xfrm>
              <a:off x="4952880" y="1523880"/>
              <a:ext cx="3429000" cy="838080"/>
            </a:xfrm>
            <a:prstGeom prst="cloudCallout">
              <a:avLst>
                <a:gd name="adj1" fmla="val -23379"/>
                <a:gd name="adj2" fmla="val 429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876560" y="2286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10080" y="17524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Work with a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Viewing the Area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ly, work through the hand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Model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Quadratic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ctions with Square Til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your insights, ideas, and questions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34C6-DDEB-4A79-A59C-6A56B4D87A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6203-56F4-44C3-AD1E-0EC2857EA8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380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4000"/>
          </a:bodyPr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Organizer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 organizer to help you record and reflect on your personal  learning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erspective Pass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-book to record interesting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at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 organizer to illustrate your travels and the pathways between you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AD81-6DE9-4C1D-AB72-3ACB845747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B634-2F1E-4360-8677-0C3F460DD2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7696080" y="3733920"/>
            <a:ext cx="1227240" cy="114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6705360" y="3200040"/>
            <a:ext cx="838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FA2A-5C4C-4D02-AF13-9551183C15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D2F8-AB7E-41F4-BDE1-50D34E7B21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a question you have from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wondering about….”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I’m confused about…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would like to learn more about…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it on a sticky note, and attach it to your gly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D02B-D10B-4B01-A48E-B1458CB599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BCF3-B718-43DC-B099-B4FBC8DC5F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10T02:30:37Z</dcterms:modified>
  <cp:revision>28</cp:revision>
  <dc:subject/>
  <dc:title>&lt;Title&gt;</dc:title>
</cp:coreProperties>
</file>